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jpeg" ContentType="image/jpeg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31.png" ContentType="image/png"/>
  <Override PartName="/ppt/media/image30.png" ContentType="image/png"/>
  <Override PartName="/ppt/media/image35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42.jpeg" ContentType="image/jpeg"/>
  <Override PartName="/ppt/media/image33.jpeg" ContentType="image/jpeg"/>
  <Override PartName="/ppt/media/image39.png" ContentType="image/png"/>
  <Override PartName="/ppt/media/image40.jpeg" ContentType="image/jpeg"/>
  <Override PartName="/ppt/media/image44.jpeg" ContentType="image/jpeg"/>
  <Override PartName="/ppt/media/image12.wmf" ContentType="image/x-wmf"/>
  <Override PartName="/ppt/media/image13.png" ContentType="image/png"/>
  <Override PartName="/ppt/media/image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41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67A3-9D70-408D-97F7-102BF684316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8ECA-F624-4C38-ABBD-63B28AA774B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089C-F2A1-4116-98D1-7024EEDBC64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FECB-D52B-47D2-9AAE-93EF8B2815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6CB3-93C5-43B0-AEA5-E109FDCA82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614E-60B9-4918-B958-E35D52217A2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4BB4-F815-46F5-8978-8ABDCE241E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E402-55F6-43C9-B61D-97C57A963C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090A-3EF3-4DDD-8284-C128E70828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240A-C4D1-49BC-A0AC-238DE10B53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8EA6-842D-4804-9264-BDC2DD2DE9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C872-0A3C-4569-8863-6C5D3C674A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3727-CE70-498D-8DC1-BF15B84351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E115-92DB-4FB1-BAC0-D28CC0D61C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E6AC-1E72-4CED-903B-F3541F7822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8106-8AFC-4467-93C7-BABC8CBE66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هدف اصل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health</a:t>
            </a: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 پیشگیری اولیه و ثانویه است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8EBC-DAD7-469E-BAE2-9FA301433FE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DAA9-1B5E-4E7D-9079-9EC8E003DC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CF30-1FE6-4176-8CBD-7E476CF086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0513-3BD3-4234-921D-F21456AA0E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A950-FC75-4C24-AC0A-9A9F941BEE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D702-2E1B-462B-8BA1-250436CC26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55E8-61C3-43AA-B3BA-47B6A2DAC0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D531-D757-4570-80BB-69B1385412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A03D-6783-4411-BB9E-78453BF50B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C69D-BB69-457F-82D9-C037AAAE35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6569-82E5-4FCF-83AD-0BC3984D55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62D7-81AA-49AE-A360-2ED9F69866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C5E3-E9C8-466E-9EB6-850752F111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948B-091B-417E-AFC3-5585098549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3AA7-FFB4-4106-833A-F603B644A7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332C-F3E1-42A5-A34E-B353B406D3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0EC5-D9B8-4E80-97F4-A7794A4EBE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9438-A0D5-4844-A4CE-BB1BBB30B7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B44D-63A7-4EF6-876D-46F1363081B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/2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A1C6-622E-4748-97E0-22875160670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209-16DE-4AD8-8EA9-7D60A62C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67DF-1AE3-400E-BBEE-67339F2A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659B-D1A4-44F2-B39F-72978A51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15E8-DA76-4EAD-BAD5-25DEC528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2C15-E5A0-472C-9C5E-675D9E0F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A029-88C3-4275-947F-B7F8054C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79F6-21DE-4D5D-9199-8D10B6BD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D5C6-E935-4AC1-B1D5-460FF0E8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3847-AD70-4544-911F-AEE18DDB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849B-F290-4CAD-9BD0-0F5D73E4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00AA-438C-4526-A39E-11B68FB9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D314-FF7A-49EE-917F-D3B016CF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FA18-9456-4871-8229-3A7D7D2C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DBD1-2256-4A76-93E5-9C23FF12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3751-E6EC-4DDC-A10F-49C3FF7C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8E20-F579-4827-9005-C7F4A9F0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A533-5278-4250-A1A4-56A0F415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E12AE-D80F-41EC-8E61-57023AA9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5905C-6101-480D-9489-C9238CBB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8E393-1F9C-4FA3-AE88-923A2579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BA859-9D78-4B8F-AA1C-36DA8449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B13E7-447B-47EA-84F5-E3FE9060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EF89-8E34-439B-A089-3273CD0B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F85F5-8EC4-420D-B374-E8C62782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B931C-8558-481B-B107-6E765776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95218-CF4B-4482-A4CE-2D82775F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5E5CD-F484-4BA1-9871-9655EA1F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AF96E-6582-47F2-ABB9-439C742B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AA668-222D-43BD-8735-36645773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4E0BC-949B-4EFC-901F-88D6B238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80D78-64F7-42EC-A1A3-9D3CA860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6ECB6-2AEB-4DC6-9A35-C4202CB7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637BB-AD07-4E95-8DC4-168D5E68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E9D5-F8C5-4BE8-8AE7-86BF5B16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3E531-F148-4950-AA54-A754FB1E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66C5A-82F4-442D-BD89-EC4F46C9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8FE59-8415-42EB-9DDA-EE7B6118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42989-6DF6-453B-9DB4-4EFA827F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BA577-8EE0-498B-8C2A-3FFC0B46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6C9DF-1588-471F-95E5-707921C4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6ABA8-BD2C-42F8-9261-339E4A5A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36EB2-E5B0-425D-9698-4AA072AC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DECD2-4AE2-400D-A6AE-15C81BE4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498-99DF-43CA-9AF2-6C015842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C864-B8FC-4D38-ABAB-7B9C2BAF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7DC3-334E-4007-9699-7C54B809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851-5667-4E6C-A3C6-509EEC9F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A3FF-171A-4C23-BF3B-9FC5AE01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EADB-1692-41E2-84F3-FC016E7D2FD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4351-7C4A-4CCC-83DE-3F875D5432D6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49A9-BD4F-406B-BE6E-EE3309758D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8A12-23DC-4B91-8D26-EDF54C180C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5.wmf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28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8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8.xml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img.slate.com/media/1/123125/122981/2111757/2118667/02_Custom-Plugs_tn.jpg&amp;imgrefurl=http://www.slate.com/id/2118800/&amp;h=150&amp;w=205&amp;sz=6&amp;hl=en&amp;start=3&amp;tbnid=O3tLQE_O3zbjwM:&amp;tbnh=77&amp;tbnw=105&amp;prev=/images%3Fq%3D%2522ear%2Bplug%2522%26svnum%3D10%26hl%3Den%26lr%3D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ffice365.co.uk/im/pim/134049.jpg&amp;imgrefurl=http://www.office365.co.uk/Safety-Security/134049-3M-Premium-Ear.htm&amp;h=300&amp;w=250&amp;sz=22&amp;hl=en&amp;start=60&amp;tbnid=bWAGtQ4YuJreVM:&amp;tbnh=116&amp;tbnw=97&amp;prev=/images%3Fq%3D%2522ear%2Bmuff%2522%26start%3D40%26ndsp%3D20%26svnum%3D10%26hl%3Den%26lr%3D%26sa%3DN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4952880" cy="3048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B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B Nazani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2057400" y="685800"/>
            <a:ext cx="51814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NAL RADIOGRAM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Picture 5" descr="01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معاینات دوره ا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2131920"/>
            <a:ext cx="8229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turn to Work Examinatio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RTW Exam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236196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bsence for a serious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Physical capa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job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it exami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tructures of exit examination is the same as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periodic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xit examination should be based on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target organ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r substances speci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assification of Sick Employ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Occupation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-related dise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induc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aggravat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nge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Workplace-Disease Inte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838080" y="2362320"/>
            <a:ext cx="274320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6095880" y="2362320"/>
            <a:ext cx="2667240" cy="1128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Occupational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6086520" y="41148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Various Pre-exi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non-occupational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914400" y="41148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3581280" y="28954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581280" y="47242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129200" y="2362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ind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962520" y="4195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aggra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y diagnosis of occupational disease i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and effective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workplac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coworkers ( disease clus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-leg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otential course of a disease &amp; the opportunities for</a:t>
            </a: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250920" y="4076640"/>
            <a:ext cx="165708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2700360" y="4076640"/>
            <a:ext cx="172872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3"/>
          <p:cNvSpPr/>
          <p:nvPr/>
        </p:nvSpPr>
        <p:spPr>
          <a:xfrm>
            <a:off x="5076720" y="4076640"/>
            <a:ext cx="158616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7308720" y="4076640"/>
            <a:ext cx="165744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ica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2050920" y="4508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4500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6732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20509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67327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46"/>
          <p:cNvSpPr/>
          <p:nvPr/>
        </p:nvSpPr>
        <p:spPr>
          <a:xfrm>
            <a:off x="4500720" y="5084640"/>
            <a:ext cx="502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2050920" y="57340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442764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6443640" y="566100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1547640" y="2852640"/>
            <a:ext cx="15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924360" y="2852640"/>
            <a:ext cx="180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6156360" y="2852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ti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3"/>
          <p:cNvSpPr/>
          <p:nvPr/>
        </p:nvSpPr>
        <p:spPr>
          <a:xfrm>
            <a:off x="4716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54"/>
          <p:cNvSpPr/>
          <p:nvPr/>
        </p:nvSpPr>
        <p:spPr>
          <a:xfrm>
            <a:off x="694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5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ION OF WORK RELATED MUSCULOSKELETAL DISORD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این بیماریها معمولا صدمات حادی نبوده و در طی هفته 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ماهها و سالها مواجهه با وظایفی که نیاز به حرکات سریع و تکراری همراه با نیروی زیاد دارند ایجاد می شو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گذشته برای این گروه از بیماریها از اصطلاح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I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استفاده میش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REVENTION OF OCCUPATIONAL DISEA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Y:Morteza davoodi  M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ccupational Physical Stressors (Job Risk Fact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wkward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repeated movements every few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ng, pack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9"/>
          <p:cNvPicPr/>
          <p:nvPr/>
        </p:nvPicPr>
        <p:blipFill>
          <a:blip r:embed="rId3"/>
          <a:stretch/>
        </p:blipFill>
        <p:spPr>
          <a:xfrm>
            <a:off x="2484360" y="36450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1008360" cy="9352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load carrying, hand tool work, dentistry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6"/>
          <a:stretch/>
        </p:blipFill>
        <p:spPr>
          <a:xfrm>
            <a:off x="2771640" y="3933720"/>
            <a:ext cx="1092240" cy="1130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brewery2_6"/>
          <p:cNvPicPr/>
          <p:nvPr/>
        </p:nvPicPr>
        <p:blipFill>
          <a:blip r:embed="rId7"/>
          <a:stretch/>
        </p:blipFill>
        <p:spPr>
          <a:xfrm>
            <a:off x="3995640" y="1628640"/>
            <a:ext cx="3276720" cy="1905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er abduction, flexion, 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electrician, plumber, painter, car assembly line, telephone operator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abinet8_7"/>
          <p:cNvPicPr/>
          <p:nvPr/>
        </p:nvPicPr>
        <p:blipFill>
          <a:blip r:embed="rId3"/>
          <a:stretch/>
        </p:blipFill>
        <p:spPr>
          <a:xfrm>
            <a:off x="1042920" y="2997360"/>
            <a:ext cx="1430280" cy="19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abinet11_10"/>
          <p:cNvPicPr/>
          <p:nvPr/>
        </p:nvPicPr>
        <p:blipFill>
          <a:blip r:embed="rId4"/>
          <a:stretch/>
        </p:blipFill>
        <p:spPr>
          <a:xfrm>
            <a:off x="5724360" y="2997360"/>
            <a:ext cx="1730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k flexion, extension, 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typists, writers, copy editors, precis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1368720" cy="1079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notebook%20only"/>
          <p:cNvPicPr/>
          <p:nvPr/>
        </p:nvPicPr>
        <p:blipFill>
          <a:blip r:embed="rId3"/>
          <a:stretch/>
        </p:blipFill>
        <p:spPr>
          <a:xfrm>
            <a:off x="4356000" y="2637000"/>
            <a:ext cx="2667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 bend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farmers, co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, manufacturing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cabinet10_9"/>
          <p:cNvPicPr/>
          <p:nvPr/>
        </p:nvPicPr>
        <p:blipFill>
          <a:blip r:embed="rId2"/>
          <a:stretch/>
        </p:blipFill>
        <p:spPr>
          <a:xfrm>
            <a:off x="5292720" y="2133720"/>
            <a:ext cx="203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a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657440" cy="28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tretch/>
        </p:blipFill>
        <p:spPr>
          <a:xfrm>
            <a:off x="1619280" y="4508640"/>
            <a:ext cx="1800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st extension, flexion, ulnar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sts, repairmen, VDT users, tailors, packaging industry, butchers, textil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458720" cy="961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1434960" cy="101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4"/>
          <a:stretch/>
        </p:blipFill>
        <p:spPr>
          <a:xfrm>
            <a:off x="3708360" y="2492280"/>
            <a:ext cx="15112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84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427640" y="1628640"/>
          <a:ext cx="4066920" cy="50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628640"/>
                    <a:ext cx="4066920" cy="5013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onged sitting and static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clerical work, textile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Figure 6: Stresses because of bifocal lenses"/>
          <p:cNvPicPr/>
          <p:nvPr/>
        </p:nvPicPr>
        <p:blipFill>
          <a:blip r:embed="rId2"/>
          <a:stretch/>
        </p:blipFill>
        <p:spPr>
          <a:xfrm>
            <a:off x="2916360" y="3933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SmartArt Placeholder 1025"/>
          <p:cNvGrpSpPr/>
          <p:nvPr/>
        </p:nvGrpSpPr>
        <p:grpSpPr>
          <a:xfrm>
            <a:off x="0" y="990720"/>
            <a:ext cx="9143640" cy="4462920"/>
            <a:chOff x="0" y="990720"/>
            <a:chExt cx="9143640" cy="4462920"/>
          </a:xfrm>
        </p:grpSpPr>
        <p:cxnSp>
          <p:nvCxnSpPr>
            <p:cNvPr id="338" name="_s1028"/>
            <p:cNvCxnSpPr>
              <a:stCxn id="339" idx="0"/>
              <a:endCxn id="340" idx="2"/>
            </p:cNvCxnSpPr>
            <p:nvPr/>
          </p:nvCxnSpPr>
          <p:spPr>
            <a:xfrm flipH="1" flipV="1" rot="5400000">
              <a:off x="2658600" y="3296520"/>
              <a:ext cx="558360" cy="152460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1029"/>
            <p:cNvCxnSpPr>
              <a:stCxn id="342" idx="0"/>
              <a:endCxn id="340" idx="2"/>
            </p:cNvCxnSpPr>
            <p:nvPr/>
          </p:nvCxnSpPr>
          <p:spPr>
            <a:xfrm flipV="1">
              <a:off x="3699720" y="3779640"/>
              <a:ext cx="18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1030"/>
            <p:cNvCxnSpPr>
              <a:stCxn id="344" idx="0"/>
              <a:endCxn id="340" idx="2"/>
            </p:cNvCxnSpPr>
            <p:nvPr/>
          </p:nvCxnSpPr>
          <p:spPr>
            <a:xfrm flipV="1" rot="16200000">
              <a:off x="4183200" y="3295800"/>
              <a:ext cx="558360" cy="1526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1031"/>
            <p:cNvCxnSpPr>
              <a:stCxn id="346" idx="0"/>
              <a:endCxn id="340" idx="2"/>
            </p:cNvCxnSpPr>
            <p:nvPr/>
          </p:nvCxnSpPr>
          <p:spPr>
            <a:xfrm flipV="1" rot="16200000">
              <a:off x="4945320" y="2533680"/>
              <a:ext cx="558360" cy="30502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7" name="_s1032"/>
            <p:cNvCxnSpPr>
              <a:stCxn id="348" idx="0"/>
              <a:endCxn id="340" idx="2"/>
            </p:cNvCxnSpPr>
            <p:nvPr/>
          </p:nvCxnSpPr>
          <p:spPr>
            <a:xfrm flipH="1" flipV="1" rot="5400000">
              <a:off x="1898280" y="2535840"/>
              <a:ext cx="558360" cy="30459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9" name="_s1033"/>
            <p:cNvCxnSpPr>
              <a:stCxn id="350" idx="1"/>
              <a:endCxn id="351" idx="2"/>
            </p:cNvCxnSpPr>
            <p:nvPr/>
          </p:nvCxnSpPr>
          <p:spPr>
            <a:xfrm rot="10800000">
              <a:off x="7619040" y="2105640"/>
              <a:ext cx="21816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2" name="_s1034"/>
            <p:cNvCxnSpPr>
              <a:stCxn id="340" idx="3"/>
              <a:endCxn id="351" idx="2"/>
            </p:cNvCxnSpPr>
            <p:nvPr/>
          </p:nvCxnSpPr>
          <p:spPr>
            <a:xfrm flipV="1">
              <a:off x="4353480" y="2105640"/>
              <a:ext cx="326664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51" name="_s1035"/>
            <p:cNvSpPr/>
            <p:nvPr/>
          </p:nvSpPr>
          <p:spPr>
            <a:xfrm>
              <a:off x="6966360" y="99072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UBLIC 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_s1036"/>
            <p:cNvSpPr/>
            <p:nvPr/>
          </p:nvSpPr>
          <p:spPr>
            <a:xfrm>
              <a:off x="304704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1037"/>
            <p:cNvSpPr/>
            <p:nvPr/>
          </p:nvSpPr>
          <p:spPr>
            <a:xfrm>
              <a:off x="783720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_s1038"/>
            <p:cNvSpPr/>
            <p:nvPr/>
          </p:nvSpPr>
          <p:spPr>
            <a:xfrm>
              <a:off x="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EDICI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1039"/>
            <p:cNvSpPr/>
            <p:nvPr/>
          </p:nvSpPr>
          <p:spPr>
            <a:xfrm>
              <a:off x="609552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NURS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1040"/>
            <p:cNvSpPr/>
            <p:nvPr/>
          </p:nvSpPr>
          <p:spPr>
            <a:xfrm>
              <a:off x="457128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ERGONOM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1041"/>
            <p:cNvSpPr/>
            <p:nvPr/>
          </p:nvSpPr>
          <p:spPr>
            <a:xfrm>
              <a:off x="304704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FE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1042"/>
            <p:cNvSpPr/>
            <p:nvPr/>
          </p:nvSpPr>
          <p:spPr>
            <a:xfrm>
              <a:off x="1523880" y="4338000"/>
              <a:ext cx="130500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YGIE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act 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 and har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and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knee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1979640" y="4292640"/>
            <a:ext cx="2016000" cy="1803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Figure 3: Contact stress from the table edge"/>
          <p:cNvPicPr/>
          <p:nvPr/>
        </p:nvPicPr>
        <p:blipFill>
          <a:blip r:embed="rId5"/>
          <a:stretch/>
        </p:blipFill>
        <p:spPr>
          <a:xfrm>
            <a:off x="6756480" y="1844640"/>
            <a:ext cx="2387520" cy="1320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2016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Arial"/>
              </a:rPr>
              <a:t>فاکتورهای سایکوسوشیال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تقاضای بالای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رضا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همکاران یا سوپروایز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امن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گرانی در مورد آینده ک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تایج مالی بیم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اعضاء خانواده و افسردگ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Arial"/>
                <a:cs typeface="Traffic"/>
              </a:rPr>
              <a:t>آموزش كار با كامپيوت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وضعيت كارب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ازو و ساق پا دروضعيت عمودي باش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ساعد وران در وضعيت افق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اها روي زمين (يا زير پايي)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‌انحناي به سمت‌داخل پشت‌را محافظت ك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وزن تنه روي‌سطوح باسن وران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ه طور مساوي تقسيم شده باش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Traffic"/>
              </a:rPr>
              <a:t>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</a:t>
            </a:r>
            <a:r>
              <a:rPr b="0" lang="fa-IR" sz="10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6" action="ppaction://hlinksldjump"/>
              </a:rPr>
              <a:t>برگشت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505240" y="5864400"/>
            <a:ext cx="10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7"/>
          <a:stretch/>
        </p:blipFill>
        <p:spPr>
          <a:xfrm>
            <a:off x="4772160" y="1676520"/>
            <a:ext cx="379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تنظيم صندل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ارتفاع صندلي رابه صورتي تنظيم كنيد كه ارتفاع آرنج در حالتي كه دستها از طرفين آويزان است با ارتفاع ميز يكسان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فضاي آزاد بين لبه جلوي صندلي و پشت زانوبه اندازه يك مشت گره كرده باش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 طوري تنظيم شودكه گودي كمر را دربر  گي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در صورتي كه پاها بالاتر از زمين قرار گرفت از زير پايي استفاده نمايي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   </a:t>
            </a:r>
            <a:r>
              <a:rPr b="0" lang="fa-IR" sz="12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5" action="ppaction://hlinksldjump"/>
              </a:rPr>
              <a:t>برگش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5" descr="healthily01"/>
          <p:cNvPicPr/>
          <p:nvPr/>
        </p:nvPicPr>
        <p:blipFill>
          <a:blip r:embed="rId6"/>
          <a:stretch/>
        </p:blipFill>
        <p:spPr>
          <a:xfrm>
            <a:off x="4648320" y="1676520"/>
            <a:ext cx="4190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صفحه كليد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زاويه آرنج بايد بي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1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8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داراي شيب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تكيه گاه مچ دست داشت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14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4" action="ppaction://hlinksldjump"/>
              </a:rPr>
              <a:t>برگش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371680" cy="2028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6"/>
          <a:stretch/>
        </p:blipFill>
        <p:spPr>
          <a:xfrm>
            <a:off x="5521320" y="1676520"/>
            <a:ext cx="2460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Ergo32a"/>
          <p:cNvPicPr/>
          <p:nvPr/>
        </p:nvPicPr>
        <p:blipFill>
          <a:blip r:embed="rId1"/>
          <a:stretch/>
        </p:blipFill>
        <p:spPr>
          <a:xfrm>
            <a:off x="4572000" y="4292640"/>
            <a:ext cx="4248000" cy="223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1" name="Picture 3" descr="Ergo30a"/>
          <p:cNvPicPr/>
          <p:nvPr/>
        </p:nvPicPr>
        <p:blipFill>
          <a:blip r:embed="rId2"/>
          <a:stretch/>
        </p:blipFill>
        <p:spPr>
          <a:xfrm>
            <a:off x="324000" y="1700280"/>
            <a:ext cx="4392360" cy="2390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Ergo32b"/>
          <p:cNvPicPr/>
          <p:nvPr/>
        </p:nvPicPr>
        <p:blipFill>
          <a:blip r:embed="rId1"/>
          <a:stretch/>
        </p:blipFill>
        <p:spPr>
          <a:xfrm>
            <a:off x="900000" y="2349360"/>
            <a:ext cx="3527640" cy="2808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3" name="Picture 3" descr="Ergo30b"/>
          <p:cNvPicPr/>
          <p:nvPr/>
        </p:nvPicPr>
        <p:blipFill>
          <a:blip r:embed="rId2"/>
          <a:stretch/>
        </p:blipFill>
        <p:spPr>
          <a:xfrm>
            <a:off x="4932360" y="2276640"/>
            <a:ext cx="3745080" cy="287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ON OF NIH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LO-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finition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cupational Healt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motion &amp; maintenance of the highest degree of  Physical , Mental &amp; Social well-being of workers in all occupations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the_ear_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o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ed cer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noise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trau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agents &amp;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induced (industrial ototoxic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OTOTOXIC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METALS:     Pb, mercury, arsenic, cobalt, lithium, thor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S:     cyanide, benzene, aniline, CS2, CO, CCL4, styrene, tolu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no glycosides, loop diuretics, anti neoplastics, salicyla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وسایل حفاظت فرد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 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رخی از کارگران از گلوله های پنبه ای بجای پلاک گوش استفاده می کند که متاسفانه به هیچ وجه کارآیی ندا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earplugs"/>
          <p:cNvPicPr/>
          <p:nvPr/>
        </p:nvPicPr>
        <p:blipFill>
          <a:blip r:embed="rId2"/>
          <a:stretch/>
        </p:blipFill>
        <p:spPr>
          <a:xfrm>
            <a:off x="0" y="35053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02_Custom-Plugs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5812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5" descr="134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3M-1450"/>
          <p:cNvPicPr/>
          <p:nvPr/>
        </p:nvPicPr>
        <p:blipFill>
          <a:blip r:embed="rId3"/>
          <a:stretch/>
        </p:blipFill>
        <p:spPr>
          <a:xfrm>
            <a:off x="5105520" y="19051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بهترین وسیله حفاظت شنوایی کدام است؟</a:t>
            </a: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6" descr="02_Custom-Plugs_tn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134049"/>
          <p:cNvPicPr/>
          <p:nvPr/>
        </p:nvPicPr>
        <p:blipFill>
          <a:blip r:embed="rId2"/>
          <a:stretch/>
        </p:blipFill>
        <p:spPr>
          <a:xfrm>
            <a:off x="5029200" y="19810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81808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BK0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4449600" y="5105520"/>
            <a:ext cx="46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80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648320" y="5029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808"/>
                </a:solidFill>
                <a:latin typeface="Verdana"/>
              </a:rPr>
              <a:t>Thanks a l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ccupational Hygien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branch of Occupat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of Anticipating , Recognizing , Evaluating &amp; Contro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hazards in the working enviro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UNCTIONS &amp; ACTIVITIES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br>
              <a:rPr sz="2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CUPATIONAL MEDIC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amin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of workers &amp; applicam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ation &amp; arrangemen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otective &amp; contro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grams for workers exposed to health 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mployment (preplacement) Health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Ionizing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Asb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ll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after a long abs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Fighte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 vehicle operato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( Termination )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Retirement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معاینات بدو استخدا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قبل از شروع به کار انجام شود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احراز دقیق هویت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تعیین دقیق وضعیت خدمت سرباز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شناسایی دقیق شغل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شغل فعلی فرد مشخص است؟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در سازمان جابجایی شغلی وجود دار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احتمال تغییر شغل فرد در آینده چقدر است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در صورت ارتقا شغلی فرد چه نیازمندی های شغلی در آینده باید دارا باش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46:36Z</dcterms:created>
  <dc:creator>health</dc:creator>
  <dc:description/>
  <dc:language>en-US</dc:language>
  <cp:lastModifiedBy>it</cp:lastModifiedBy>
  <dcterms:modified xsi:type="dcterms:W3CDTF">2019-12-25T04:04:55Z</dcterms:modified>
  <cp:revision>121</cp:revision>
  <dc:subject/>
  <dc:title>MUSCULOSKELETAL DISORDERS</dc:title>
</cp:coreProperties>
</file>